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009B-B31A-4EE0-B0BF-2B784EB7D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D31E-7908-4989-BE0D-CB5DD231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DD6F-9AFB-4B1F-922A-B4D4BA8C8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DD05-F848-423F-9110-BC32F0FE1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71C4-C2F6-4739-AEAE-95EF28AE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DDD1-2227-424B-B3BE-D9385DAA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B341-902D-48D6-ACD8-BE330DBA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4602-5BBD-44D3-8824-0BE920F1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C207-5BEB-4025-A7BE-D419EEF4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8178-9447-4998-BA39-637AE58D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43E9-CA11-45D9-8586-7597FC2B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93E5-5889-48AF-AACB-1D32EF19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7520"/>
            <a:ext cx="11430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AE7E-0F1D-40C9-BA73-35C8DB93DC67}" type="datetime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76520" y="6527520"/>
            <a:ext cx="457200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520"/>
            <a:ext cx="9144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Slide #: </a:t>
            </a:r>
            <a:fld id="{D6556571-658A-40D4-A22F-58DDB1E2A82B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FABRIC</a:t>
            </a:r>
            <a:br>
              <a:rPr sz="4000"/>
            </a:b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Next 18 month forward look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ib van Langevelde, J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5105520"/>
            <a:ext cx="4419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EXPReS is made possible through the support of the European Commission (DG-INFSO), Sixth  Framework Programme, Contract #02664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Personnel issu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ous delays in making new h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partners follow AC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ble delay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 work at JB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 identified, not too many dependencies y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tronomical side of correlator work at J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d order of work-packages, seems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engineering work at OSO uncl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with iBOB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time” FABRIC coordin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addressed when JIVE director position cl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sible for overall design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term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1D75-D053-4E85-835E-3908731D5CC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0CFDD0-B208-4E72-812C-15AF67F492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echnical issu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decision on data acquisition plat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made, not that much delay, design docs deliv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ivery of iBOB’s, Xilinx chips,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ntroduces a 4 – 5 month gap in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tunately no idle personnel y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still need to climb learning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description of OSO and LOFAR part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of distributed correl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d a good deal of inte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delayed JIVE design document somew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set by good progress on correlato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term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6CB8-656E-4D8F-9170-2E1DF05D66E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8C3D26-7877-47DC-A306-01F97788DF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Work plan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remain largely the 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ed out the revised ti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milestones shift, one is split in two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nding will ramp up a bit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most all hires comp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the ones on matching local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-doc for JBO protocol work ident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testing may fall outside 3 year 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monitor over next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all design document by FABRIC 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be addressed by team ef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term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E64C-9EF1-4888-85EE-53A368A5FC4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6FED80-E66D-47BE-BB9B-2735EE756A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763120" cy="66438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724280" y="304920"/>
            <a:ext cx="0" cy="63244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term revie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5462-EE2E-4674-807F-253F11EADBE2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03B7E7-0775-43C5-90F6-A4B5700CC8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673884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038480" y="304920"/>
            <a:ext cx="0" cy="6019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term revie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EE55-3A1C-4EC9-862F-A5B45CAEDA8F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B911FF-5D14-4ACB-9D4C-DCD7724823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228600" y="228600"/>
          <a:ext cx="8686800" cy="6540480"/>
        </p:xfrm>
        <a:graphic>
          <a:graphicData uri="http://schemas.openxmlformats.org/drawingml/2006/table">
            <a:tbl>
              <a:tblPr/>
              <a:tblGrid>
                <a:gridCol w="1171440"/>
                <a:gridCol w="3019680"/>
                <a:gridCol w="833400"/>
                <a:gridCol w="761760"/>
                <a:gridCol w="762120"/>
                <a:gridCol w="885960"/>
                <a:gridCol w="1252440"/>
              </a:tblGrid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igi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vi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onsi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J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 acquisition requirements docu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J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tocols strategic docu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B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J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sualization softw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ftw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J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relator design specif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J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verall design docu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J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LBI-Grid design docu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NS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J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LBI fringes PC-EV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J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FAR connection strategic docu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TR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J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 acquisition design docu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J1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LBI-Grid interface docu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NS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J1.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tocols performance re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B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J1.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ftware correlator 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ftw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J1.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ftware data produ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ftw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J1.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 acquisition interface docu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J1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FAR station interface re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TR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J1.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ftware for workflow man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ftw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NS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term revie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B7E7-A6FD-40A9-93A6-788C38C4AA19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06AD51-A2AB-4679-B542-6B8FAEA58F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cyun</cp:lastModifiedBy>
  <dcterms:modified xsi:type="dcterms:W3CDTF">2007-04-16T09:55:16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